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804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4400" y="744480"/>
            <a:ext cx="4965840" cy="37260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33080"/>
            <a:ext cx="294480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8040" y="9433080"/>
            <a:ext cx="294480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D87E-46BF-4768-9F6B-DD44E5419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4400" y="744480"/>
            <a:ext cx="4965840" cy="3726000"/>
          </a:xfrm>
          <a:prstGeom prst="rect">
            <a:avLst/>
          </a:prstGeom>
          <a:ln w="0">
            <a:noFill/>
          </a:ln>
        </p:spPr>
      </p:sp>
      <p:sp>
        <p:nvSpPr>
          <p:cNvPr id="6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Date Placeholder 3"/>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Slide Number Placeholder 4"/>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B060-181C-4A7C-8848-28D07A88C1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0" name="Header Placeholder 5"/>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D6130-6815-406A-B58E-80C645037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3BCEF-FC0F-448F-8BC1-4B2E6E466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2D4840-627B-439E-9A5A-AB741B39DE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5B856-CE30-48D4-B956-92550F945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47A5BD-93BE-4F28-A5BA-173F75C936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FBBCC-F269-4484-971F-2FEEA87C8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46FE8-9233-4DE0-A12B-6DAA8DF59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B132E2-A543-40B1-810D-A7DDE1A06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E9695-68FE-463C-A5B6-FC890C803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149FCC-FA8D-4472-B88C-A1E212FFCD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C97986-0882-498B-B3C2-BD2E9DBA9D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66607C-8D0F-45B3-82A6-D81B31168E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6EFA3-FC78-4EF4-BB37-08FDEA7CE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C04947-8C17-4C80-B593-D571F360B5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8CB8B9-FA00-4485-94CE-A586DD14C1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582233-317A-427B-A2AF-FA6558D5AB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0EAD17-319D-4993-A3DF-F651C1A22D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502B13-F9D3-4AE2-9BFE-196A5C434E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EE11E7-8612-4F6C-8033-64582FAC09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2F0AC7-3D61-412B-B458-92A7B0F3EF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1D1681-DBB0-473F-A313-7CCE5A6090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B4B90C-9613-4EF5-BDA9-8FAF2739D0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033A4C-4B24-4DF2-8841-DADB367E8E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0EF43-BE3F-4FB2-9AD6-261B9BEBB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F647CB-099E-409C-8233-691C0B9CE1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F26C28-2418-419D-8B18-7DA585F5F4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F188BB-C272-400C-84CE-B46D265C61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5A4922-6F5E-4A51-A259-D452918BA2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A07F5A-D821-477F-92F1-D9F7C1D981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7B9C64-B44E-4ADB-B00D-2D70D13E43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7B51B3-2842-4B30-BFB6-8C63624EE9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7D4451-7F3B-4C7C-944D-92AC23A540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AF6725-3635-401F-9831-2A1BFCF05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792A66-51A2-498C-A39E-8981B65C41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059B6-3E28-4005-9B27-A58EBC9C3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9495E7-A9BC-431F-8D3F-850296F381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A7D1AA-B09A-405C-ADD1-C76E6C87BD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34574E-DA27-4F10-BCF7-7EE1F73309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8B23BD-4287-48A9-9AC4-73F37D1066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919369-5007-4201-9346-38C5D3EFC4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55C559-F1F1-4A30-8D61-C7F292FA86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3467AB-A5E6-498C-A67C-8DBA9900C5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F65B01-F309-4FCC-BD78-38A9835DC3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FE13C5-D9FA-4F62-8956-B5961EA406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029B69-2F30-45A8-926F-FBBE7226F3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24DC9-899F-42E1-8BEA-73216434F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124BB0-F182-4FEC-A2D7-4169B208BC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B9EFD8-C175-4E91-BBEE-8512E2F630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F3DB48-C896-40C8-ADE2-E93940B938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E729AC-35CA-4422-A93C-9CED46C03E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A64517-84B1-4D1F-B432-A4FE52938D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033AD5-FFF8-4B68-9C04-265A1AE804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B7BEEE-533D-432E-B04C-13EEDCB5EF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68C5DF-5C42-4A56-A4ED-FF75C37FCE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633974-9FF3-43D0-9D39-FD09BE5AB5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DA0B7B-C31F-4EC0-8D95-C422EC1FC4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F53FE-3F45-4C58-A945-6CB50805B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C48192-47FD-4EFC-B614-3A86614AA4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87540F-021B-40BB-A221-9CC0F0E844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36A1D5-7F90-4AA9-A72C-EC5D27B706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DA99A5-8255-4953-BFCF-15ECBE2834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301BB5-EFF5-4E9D-8616-5A22973F72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9CDF88-5B6C-4987-8766-3E6EF3996F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CBFF1C-F83C-4E48-BF81-B8D3A97B58A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D68BE-8477-4B21-86B1-07C8B893D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B4F6E-9CCE-4373-A5DE-4613640A6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646E6-B5A9-4A10-8622-68E520DC5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FB60B-F03F-4119-949E-3926692A8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F34DE-212C-4300-9D12-B1795FA2B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C72D-7CF0-43D1-BFC2-BA88F2DB6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7E9A3-51DF-453A-9F97-3C1C0DA24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E26C2-8E6C-486E-93DA-BBD7B0CCB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63B3A-87AF-45B6-B06C-B76C6000D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A5056-0CAA-4633-8A88-D1CF2419E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B0F6E-CEBF-47C3-89D6-D62924A441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5F535-CB81-46E3-9584-217D6B7E3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C2BFF-C12A-447F-B2DE-DB6D6629D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25E18-88B8-4551-9507-F8491AC79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3F661-6513-4262-ACF9-CD830D7836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7EBA-3A00-496C-B3BF-D784AE54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105C8-B254-49C6-9797-B280116B1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FEC9F-4203-43E6-8DBF-F5B149588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6E3A1-57FD-4575-ACAD-CF3670329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A3D7B-4B8A-49C3-AACF-E7888412C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0B19E-7903-4A39-AE87-F6D2A9D29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D0F36D-213D-4744-8F10-6413774DC1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432B9B-D763-4AEE-9A4A-7054523949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7F9D27-B050-4FCB-82DE-FBE362827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D87EC-EF9E-4CE0-975E-60284CE42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B5190F-FF22-4C86-A684-B6408E9235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FCC77-0024-40AE-8E09-986BF8B60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35465-0591-414F-9DB0-4ACBF5794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DE8AD-6923-4FAA-A9F7-0F0795452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FA32F-5671-4FD0-B211-915D60710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64D03-D10C-462D-8F42-08298A23EB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FFD91-2C2B-423B-B9D1-075BC6A72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8BF4E-CBC6-4549-9D81-F0AD5EB26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213DD-2FBF-445C-99B6-EF646D5A7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198F36-A5EC-4013-8194-057E18B2B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4D3B74-36F4-4113-99BA-266B1CA178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8CB996-548F-4504-94D2-4A6D5D2EBC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EDF7-1301-4091-87D5-A96D979E2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F1D33-07AC-4468-B636-DFDDCF4F9E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399CF-A114-4CFC-83B9-EF857A26E0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B269F-8410-4332-837D-0134FF15F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5EABE-7B0E-4BF8-906D-45A7A3113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799A32-ECF0-451A-BA3F-C38FD7126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EBA54-3BE9-4361-ACA4-E2BC3EBF9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40C73-1101-4C12-8A52-A85F82C20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53FE3-95A0-45F3-A1C3-D8624F889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29E64-55BA-45F2-BF8B-9FA8881820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864B3-C73C-4AAF-96E0-E6CC1986D3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345CF-6B47-4B50-950D-8712985F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268592-FEEA-448F-B92F-4DDBA2285A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850C42-BAB6-4489-9B6C-0A0D67972E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1AA1D-9E06-43E4-9E5D-404BB5B57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169973-98C5-4E5C-865E-9BE9090E9C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30CD8-8E59-48B3-81A1-435810F273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358F9C-A64F-487E-A713-2ADE106A38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3FDB8-74FB-4A41-AE7E-7C5413ED23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B935F-DB1E-477C-8503-1AB25D458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186AB-BFBC-4068-A710-01862047D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05BEB-1724-48FD-AA79-E24BDBC92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910A-B521-4CC2-8BFF-0728EC6B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C2B85-CD75-4AD6-AD0B-6A85625826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82BE12-75F3-40DA-AD1B-3B04A814FD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A379E-A6C4-47D2-9DE2-3075175C32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AD0FFF-ACD9-497F-B084-7DCB747A2F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0A7D8-EE62-4ED1-ABE1-61390661D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F17B0B-9FD0-4A8C-8663-C7FB16F986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23419-404B-4442-92F8-02B1BC0F6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4D8D3-2929-4406-BC6E-35AEA25F8A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B03A4-AC28-4753-BBCD-0426AD3AD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BED1A-2A3D-463C-879E-3DC8B993F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8D55-4A7C-44D7-919D-89E9A1A29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12B3F-8173-4203-A837-F40546812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4EC73-7AAF-4EE4-B1E5-F26183EB8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99FDA-B817-44AD-9050-B84D5DD1DA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EE76EC-A4A5-40E0-A82E-4028D065B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F99B24-C77F-48C0-A666-5F93D6B62B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A71B13-E4A7-4AD2-9EC3-336A851291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034858-60A4-41C3-AD77-10A85A97C3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3AC7E-7DEF-4FD7-B53E-35AD96CD26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F12880-9A2E-4BE0-8283-E4828306AD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226318-D008-4821-8ED1-01AB28DCA6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F196-AB47-4D7B-BFC0-E16F742E6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C1CED2-32A3-42CA-8DC6-4E98C1B95E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714CE-EBC5-4DBC-91FE-605F03B63C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891AB-3F1F-4B7E-888D-3F262FB3D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7EBDA-BA06-4793-B8EA-D3029F865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D97B43-1BCD-4FA3-9040-13D6BF69B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6416E6-A809-4B6A-8702-F3D42C3913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23C4BB-62DE-486C-B77C-9D475F495C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616D67-3FE4-4E01-84D2-85AB048953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F695E8-C097-4373-B287-F1599B9E65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14AC0-BDB4-48B8-B919-A570CD045E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39FD-0C81-429E-90DD-417A915AD38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F833-9378-470F-B393-90F2CC79CB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83DA-1921-40FE-8E24-25B8A2A86B6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614C-2EE0-42FF-8F4A-633CDF1F75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05BB-F00C-4E87-9902-3B99A06DFD1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0BA4-7A03-4D1C-9F7A-F9C6706FBC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BCBA-E6BF-4A06-AD68-7019772B8CB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5ED7-C696-4108-8F8F-E07DCB3094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A12F-840B-4A03-A5C0-E3B48C7C80B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3F04-160F-4E5C-9889-7739C2C65A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5B4F-C2BA-49D7-964E-60342A1BC3F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C01B-0CDF-4ADC-A4FA-F287295A17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599F-5954-4BA6-AF6F-35494F2CDB7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AD4D-204B-44A1-A578-9C4D92A2F5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BB0D-AF97-4479-AE64-FD2AFE47898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CE27-D86A-4141-946A-34BDA5FE6B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AE66-2BFC-4EF1-87A1-F08705D4ABF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1506-1288-4F92-A488-94E92378EF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E53B-107A-490E-B3EA-83E21918482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A7E3-24B8-4788-8698-F0885EE012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BB55-251D-4CD8-B069-63108E91DD3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B72D-40E9-4DDB-B8AB-52330AEC58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A3FC-963F-4412-B5F4-E76CF39E4AF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936C-3A98-4186-85F0-698C094064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45CA-92FD-4A5B-9B7E-7C1F033A97F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FF8D-9773-49A7-B85E-FF192E86E5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image" Target="../media/image12.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58000" y="22860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13360" y="184320"/>
            <a:ext cx="1606320" cy="1171440"/>
          </a:xfrm>
          <a:prstGeom prst="rect">
            <a:avLst/>
          </a:prstGeom>
          <a:ln w="0">
            <a:noFill/>
          </a:ln>
        </p:spPr>
      </p:pic>
      <p:pic>
        <p:nvPicPr>
          <p:cNvPr id="546" name="Content Placeholder 11" descr=""/>
          <p:cNvPicPr/>
          <p:nvPr/>
        </p:nvPicPr>
        <p:blipFill>
          <a:blip r:embed="rId2"/>
          <a:stretch/>
        </p:blipFill>
        <p:spPr>
          <a:xfrm>
            <a:off x="5985000" y="184320"/>
            <a:ext cx="1447560" cy="1171440"/>
          </a:xfrm>
          <a:prstGeom prst="rect">
            <a:avLst/>
          </a:prstGeom>
          <a:ln w="0">
            <a:noFill/>
          </a:ln>
        </p:spPr>
      </p:pic>
      <p:pic>
        <p:nvPicPr>
          <p:cNvPr id="547" name="Picture 2" descr=""/>
          <p:cNvPicPr/>
          <p:nvPr/>
        </p:nvPicPr>
        <p:blipFill>
          <a:blip r:embed="rId3"/>
          <a:stretch/>
        </p:blipFill>
        <p:spPr>
          <a:xfrm>
            <a:off x="455760" y="272880"/>
            <a:ext cx="3419280" cy="9018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3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51800" y="20484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457200" y="106380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
          <p:cNvSpPr/>
          <p:nvPr/>
        </p:nvSpPr>
        <p:spPr>
          <a:xfrm>
            <a:off x="2022480" y="4078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53" name="Picture 2" descr=""/>
          <p:cNvPicPr/>
          <p:nvPr/>
        </p:nvPicPr>
        <p:blipFill>
          <a:blip r:embed="rId1"/>
          <a:stretch/>
        </p:blipFill>
        <p:spPr>
          <a:xfrm>
            <a:off x="5715000" y="3886200"/>
            <a:ext cx="3105000" cy="2390760"/>
          </a:xfrm>
          <a:prstGeom prst="rect">
            <a:avLst/>
          </a:prstGeom>
          <a:ln w="0">
            <a:noFill/>
          </a:ln>
        </p:spPr>
      </p:pic>
      <p:sp>
        <p:nvSpPr>
          <p:cNvPr id="554" name="TextBox 2"/>
          <p:cNvSpPr/>
          <p:nvPr/>
        </p:nvSpPr>
        <p:spPr>
          <a:xfrm>
            <a:off x="457200" y="396252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2" descr="D:\VIM\VIM_elements_for_colleagues\7. BRCT Călăraşi.JPG"/>
          <p:cNvPicPr/>
          <p:nvPr/>
        </p:nvPicPr>
        <p:blipFill>
          <a:blip r:embed="rId2"/>
          <a:stretch/>
        </p:blipFill>
        <p:spPr>
          <a:xfrm>
            <a:off x="8305920" y="5978520"/>
            <a:ext cx="635040" cy="730080"/>
          </a:xfrm>
          <a:prstGeom prst="rect">
            <a:avLst/>
          </a:prstGeom>
          <a:ln w="0">
            <a:noFill/>
          </a:ln>
        </p:spPr>
      </p:pic>
      <p:pic>
        <p:nvPicPr>
          <p:cNvPr id="556" name="Picture 4" descr=""/>
          <p:cNvPicPr/>
          <p:nvPr/>
        </p:nvPicPr>
        <p:blipFill>
          <a:blip r:embed="rId3"/>
          <a:stretch/>
        </p:blipFill>
        <p:spPr>
          <a:xfrm>
            <a:off x="457200" y="353880"/>
            <a:ext cx="2408400" cy="633600"/>
          </a:xfrm>
          <a:prstGeom prst="rect">
            <a:avLst/>
          </a:prstGeom>
          <a:ln w="0">
            <a:noFill/>
          </a:ln>
        </p:spPr>
      </p:pic>
      <p:pic>
        <p:nvPicPr>
          <p:cNvPr id="557" name="Picture 5" descr=""/>
          <p:cNvPicPr/>
          <p:nvPr/>
        </p:nvPicPr>
        <p:blipFill>
          <a:blip r:embed="rId4"/>
          <a:stretch/>
        </p:blipFill>
        <p:spPr>
          <a:xfrm>
            <a:off x="387360" y="6119640"/>
            <a:ext cx="1341360" cy="60984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007D-F61F-4A4A-9B5F-8BE8854F3D0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8996-0EF2-48A3-BDCC-D4A0A5FC42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Rectangle 3"/>
          <p:cNvSpPr/>
          <p:nvPr/>
        </p:nvSpPr>
        <p:spPr>
          <a:xfrm>
            <a:off x="457200" y="106380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Black"/>
              </a:rPr>
              <a:t>A conflict of interests </a:t>
            </a:r>
            <a:r>
              <a:rPr b="1" lang="en-US" sz="18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800" spc="-1" strike="noStrike" u="sng">
                <a:solidFill>
                  <a:srgbClr val="002060"/>
                </a:solidFill>
                <a:uFillTx/>
                <a:latin typeface="Arial Black"/>
              </a:rPr>
              <a:t>is compromised</a:t>
            </a:r>
            <a:r>
              <a:rPr b="1" lang="en-US" sz="1800" spc="-1" strike="noStrike">
                <a:solidFill>
                  <a:srgbClr val="002060"/>
                </a:solidFill>
                <a:latin typeface="Arial Black"/>
              </a:rPr>
              <a:t> for reasons involving family, emotional life, political or national affinity, economic interest or any other shared interest with a recipient.</a:t>
            </a: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9"/>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62" name="Content Placeholder 6" descr=""/>
          <p:cNvPicPr/>
          <p:nvPr/>
        </p:nvPicPr>
        <p:blipFill>
          <a:blip r:embed="rId1"/>
          <a:stretch/>
        </p:blipFill>
        <p:spPr>
          <a:xfrm>
            <a:off x="5105520" y="3792600"/>
            <a:ext cx="3697200" cy="2244600"/>
          </a:xfrm>
          <a:prstGeom prst="rect">
            <a:avLst/>
          </a:prstGeom>
          <a:ln w="0">
            <a:noFill/>
          </a:ln>
        </p:spPr>
      </p:pic>
      <p:sp>
        <p:nvSpPr>
          <p:cNvPr id="563" name="TextBox 4"/>
          <p:cNvSpPr/>
          <p:nvPr/>
        </p:nvSpPr>
        <p:spPr>
          <a:xfrm>
            <a:off x="654120" y="3956040"/>
            <a:ext cx="4451400" cy="191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Family - XX degree family relationship, marriage or registered civil partnership.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Economic interest - Contractual relationship or paid or unpaid consultancy currently applicable.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Other shared interest with a recipient  - including voluntary work, member of a board or directive council.</a:t>
            </a:r>
            <a:endParaRPr b="0" lang="en-US" sz="1500" spc="-1" strike="noStrike">
              <a:solidFill>
                <a:srgbClr val="000000"/>
              </a:solidFill>
              <a:latin typeface="Arial"/>
            </a:endParaRPr>
          </a:p>
        </p:txBody>
      </p:sp>
      <p:pic>
        <p:nvPicPr>
          <p:cNvPr id="564" name="Picture 2" descr="D:\VIM\VIM_elements_for_colleagues\7. BRCT Călăraşi.JPG"/>
          <p:cNvPicPr/>
          <p:nvPr/>
        </p:nvPicPr>
        <p:blipFill>
          <a:blip r:embed="rId2"/>
          <a:stretch/>
        </p:blipFill>
        <p:spPr>
          <a:xfrm>
            <a:off x="8278920" y="5967360"/>
            <a:ext cx="636480" cy="731880"/>
          </a:xfrm>
          <a:prstGeom prst="rect">
            <a:avLst/>
          </a:prstGeom>
          <a:ln w="0">
            <a:noFill/>
          </a:ln>
        </p:spPr>
      </p:pic>
      <p:pic>
        <p:nvPicPr>
          <p:cNvPr id="565" name="Picture 2" descr=""/>
          <p:cNvPicPr/>
          <p:nvPr/>
        </p:nvPicPr>
        <p:blipFill>
          <a:blip r:embed="rId3"/>
          <a:stretch/>
        </p:blipFill>
        <p:spPr>
          <a:xfrm>
            <a:off x="336600" y="331920"/>
            <a:ext cx="2408040" cy="633240"/>
          </a:xfrm>
          <a:prstGeom prst="rect">
            <a:avLst/>
          </a:prstGeom>
          <a:ln w="0">
            <a:noFill/>
          </a:ln>
        </p:spPr>
      </p:pic>
      <p:pic>
        <p:nvPicPr>
          <p:cNvPr id="566" name="Picture 3" descr=""/>
          <p:cNvPicPr/>
          <p:nvPr/>
        </p:nvPicPr>
        <p:blipFill>
          <a:blip r:embed="rId4"/>
          <a:stretch/>
        </p:blipFill>
        <p:spPr>
          <a:xfrm>
            <a:off x="299880" y="6149880"/>
            <a:ext cx="134172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8" name="PlaceHolder 2"/>
          <p:cNvSpPr>
            <a:spLocks noGrp="1"/>
          </p:cNvSpPr>
          <p:nvPr>
            <p:ph type="subTitle"/>
          </p:nvPr>
        </p:nvSpPr>
        <p:spPr>
          <a:xfrm>
            <a:off x="380520" y="914040"/>
            <a:ext cx="8458200" cy="39625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Reference Documents for preventing fraud</a:t>
            </a:r>
            <a:endParaRPr b="0" lang="en-US" sz="2000" spc="-1" strike="noStrike">
              <a:solidFill>
                <a:srgbClr val="000000"/>
              </a:solidFill>
              <a:latin typeface="Calibri"/>
            </a:endParaRPr>
          </a:p>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 </a:t>
            </a:r>
            <a:r>
              <a:rPr b="1" lang="en-US" sz="2000" spc="-1" strike="noStrike" u="sng">
                <a:solidFill>
                  <a:srgbClr val="ff0000"/>
                </a:solidFill>
                <a:uFillTx/>
                <a:latin typeface="Arial Black"/>
                <a:ea typeface="Arial"/>
              </a:rPr>
              <a:t>and Conflict of Interest</a:t>
            </a:r>
            <a:endParaRPr b="0" lang="en-US" sz="20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7.B. “Anti-Fraud Measures” of the Project Implementation Manual;</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vailable at the Programme website (Section Programme Publications)</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0" lang="en-US" sz="1800" spc="-1" strike="noStrike" u="sng">
                <a:solidFill>
                  <a:srgbClr val="0000ff"/>
                </a:solidFill>
                <a:uFillTx/>
                <a:latin typeface="Arial Black"/>
                <a:ea typeface="Arial"/>
                <a:hlinkClick r:id="rId2"/>
              </a:rPr>
              <a:t>ec.europa.eu/sfc/en/2014/anti-fraud</a:t>
            </a:r>
            <a:r>
              <a:rPr b="1" lang="en-US" sz="1800" spc="-1" strike="noStrike">
                <a:solidFill>
                  <a:srgbClr val="002060"/>
                </a:solidFill>
                <a:latin typeface="Arial Black"/>
                <a:ea typeface="Arial"/>
              </a:rPr>
              <a:t>;</a:t>
            </a:r>
            <a:endParaRPr b="0" lang="en-US" sz="1800" spc="-1" strike="noStrike">
              <a:solidFill>
                <a:srgbClr val="000000"/>
              </a:solidFill>
              <a:latin typeface="Calibri"/>
            </a:endParaRPr>
          </a:p>
          <a:p>
            <a:pPr lvl="1"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70" name="TextBox 1"/>
          <p:cNvSpPr/>
          <p:nvPr/>
        </p:nvSpPr>
        <p:spPr>
          <a:xfrm>
            <a:off x="380880" y="4419720"/>
            <a:ext cx="6400800" cy="14655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https://www.integritate.eu/A.N.I.-interactiv/Ghiduri.aspx </a:t>
            </a:r>
            <a:endParaRPr b="0" lang="en-US" sz="1800" spc="-1" strike="noStrike">
              <a:solidFill>
                <a:srgbClr val="000000"/>
              </a:solidFill>
              <a:latin typeface="Arial"/>
            </a:endParaRPr>
          </a:p>
        </p:txBody>
      </p:sp>
      <p:pic>
        <p:nvPicPr>
          <p:cNvPr id="571" name="Picture 6" descr="C:\Users\gergana.mihaylova\Desktop\text-guide.png"/>
          <p:cNvPicPr/>
          <p:nvPr/>
        </p:nvPicPr>
        <p:blipFill>
          <a:blip r:embed="rId3"/>
          <a:stretch/>
        </p:blipFill>
        <p:spPr>
          <a:xfrm>
            <a:off x="6556320" y="3962520"/>
            <a:ext cx="2587680" cy="1725480"/>
          </a:xfrm>
          <a:prstGeom prst="rect">
            <a:avLst/>
          </a:prstGeom>
          <a:ln w="0">
            <a:noFill/>
          </a:ln>
        </p:spPr>
      </p:pic>
      <p:pic>
        <p:nvPicPr>
          <p:cNvPr id="572" name="Picture 2" descr="D:\VIM\VIM_elements_for_colleagues\7. BRCT Călăraşi.JPG"/>
          <p:cNvPicPr/>
          <p:nvPr/>
        </p:nvPicPr>
        <p:blipFill>
          <a:blip r:embed="rId4"/>
          <a:stretch/>
        </p:blipFill>
        <p:spPr>
          <a:xfrm>
            <a:off x="8224920" y="5884920"/>
            <a:ext cx="636480" cy="731880"/>
          </a:xfrm>
          <a:prstGeom prst="rect">
            <a:avLst/>
          </a:prstGeom>
          <a:ln w="0">
            <a:noFill/>
          </a:ln>
        </p:spPr>
      </p:pic>
      <p:pic>
        <p:nvPicPr>
          <p:cNvPr id="573" name="Picture 1" descr=""/>
          <p:cNvPicPr/>
          <p:nvPr/>
        </p:nvPicPr>
        <p:blipFill>
          <a:blip r:embed="rId5"/>
          <a:stretch/>
        </p:blipFill>
        <p:spPr>
          <a:xfrm>
            <a:off x="380880" y="309600"/>
            <a:ext cx="2408400" cy="633240"/>
          </a:xfrm>
          <a:prstGeom prst="rect">
            <a:avLst/>
          </a:prstGeom>
          <a:ln w="0">
            <a:noFill/>
          </a:ln>
        </p:spPr>
      </p:pic>
      <p:pic>
        <p:nvPicPr>
          <p:cNvPr id="574" name="Picture 3" descr=""/>
          <p:cNvPicPr/>
          <p:nvPr/>
        </p:nvPicPr>
        <p:blipFill>
          <a:blip r:embed="rId6"/>
          <a:stretch/>
        </p:blipFill>
        <p:spPr>
          <a:xfrm>
            <a:off x="380880" y="6049800"/>
            <a:ext cx="134172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hapter 17.B. of the Project Implementation Manual</a:t>
            </a:r>
            <a:br>
              <a:rPr sz="2000"/>
            </a:br>
            <a:br>
              <a:rPr sz="2000"/>
            </a:br>
            <a:endParaRPr b="0" lang="en-US" sz="2000" spc="-1" strike="noStrike">
              <a:solidFill>
                <a:srgbClr val="000000"/>
              </a:solidFill>
              <a:latin typeface="Calibri"/>
            </a:endParaRPr>
          </a:p>
        </p:txBody>
      </p:sp>
      <p:sp>
        <p:nvSpPr>
          <p:cNvPr id="576" name="PlaceHolder 2"/>
          <p:cNvSpPr>
            <a:spLocks noGrp="1"/>
          </p:cNvSpPr>
          <p:nvPr>
            <p:ph type="subTitle"/>
          </p:nvPr>
        </p:nvSpPr>
        <p:spPr>
          <a:xfrm>
            <a:off x="342720" y="1523880"/>
            <a:ext cx="8458200" cy="1447920"/>
          </a:xfrm>
          <a:prstGeom prst="rect">
            <a:avLst/>
          </a:prstGeom>
          <a:noFill/>
          <a:ln w="0">
            <a:noFill/>
          </a:ln>
        </p:spPr>
        <p:txBody>
          <a:bodyPr anchor="t">
            <a:no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The beneficiary should have an </a:t>
            </a:r>
            <a:r>
              <a:rPr b="1" lang="en-US" sz="1800" spc="-1" strike="noStrike" u="sng">
                <a:solidFill>
                  <a:srgbClr val="ff0000"/>
                </a:solidFill>
                <a:uFillTx/>
                <a:latin typeface="Arial Black"/>
                <a:ea typeface="Arial"/>
              </a:rPr>
              <a:t>internal code of conduct and a conflict of interest policy</a:t>
            </a:r>
            <a:r>
              <a:rPr b="1" lang="en-US" sz="1800" spc="-1" strike="noStrike">
                <a:solidFill>
                  <a:srgbClr val="002060"/>
                </a:solidFill>
                <a:latin typeface="Arial Black"/>
                <a:ea typeface="Arial"/>
              </a:rPr>
              <a:t> relating to projects funded from European funds – a unambiguous code of ethics that all beneficiary staff must routinely declare adherence to, covering aspects related to:</a:t>
            </a:r>
            <a:endParaRPr b="0" lang="en-US" sz="18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600" spc="-1" strike="noStrike">
              <a:solidFill>
                <a:srgbClr val="000000"/>
              </a:solidFill>
              <a:latin typeface="Calibri"/>
            </a:endParaRPr>
          </a:p>
        </p:txBody>
      </p:sp>
      <p:sp>
        <p:nvSpPr>
          <p:cNvPr id="577"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78" name="Picture 2" descr="D:\VIM\VIM_elements_for_colleagues\7. BRCT Călăraşi.JPG"/>
          <p:cNvPicPr/>
          <p:nvPr/>
        </p:nvPicPr>
        <p:blipFill>
          <a:blip r:embed="rId1"/>
          <a:stretch/>
        </p:blipFill>
        <p:spPr>
          <a:xfrm>
            <a:off x="8305920" y="6005520"/>
            <a:ext cx="636480" cy="731880"/>
          </a:xfrm>
          <a:prstGeom prst="rect">
            <a:avLst/>
          </a:prstGeom>
          <a:ln w="0">
            <a:noFill/>
          </a:ln>
        </p:spPr>
      </p:pic>
      <p:pic>
        <p:nvPicPr>
          <p:cNvPr id="579" name="Picture 5" descr="C:\Users\gergana.mihaylova\Desktop\code-of-conduct-img.jpg"/>
          <p:cNvPicPr/>
          <p:nvPr/>
        </p:nvPicPr>
        <p:blipFill>
          <a:blip r:embed="rId2"/>
          <a:stretch/>
        </p:blipFill>
        <p:spPr>
          <a:xfrm>
            <a:off x="6716880" y="2819520"/>
            <a:ext cx="2124000" cy="2460600"/>
          </a:xfrm>
          <a:prstGeom prst="rect">
            <a:avLst/>
          </a:prstGeom>
          <a:ln w="0">
            <a:noFill/>
          </a:ln>
        </p:spPr>
      </p:pic>
      <p:sp>
        <p:nvSpPr>
          <p:cNvPr id="580" name="TextBox 1"/>
          <p:cNvSpPr/>
          <p:nvPr/>
        </p:nvSpPr>
        <p:spPr>
          <a:xfrm>
            <a:off x="228600" y="2971800"/>
            <a:ext cx="6248520" cy="22842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licts of interest – explanation and requirements and procedures for disclosure, as well as sanctions in case of non-disclosure or false declaration;</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Gifts and hospitality policy – explanation and responsibilities of staff for complianc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idential information – explanation and responsibilities of staff;</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Requirements for reporting of suspected fraud. </a:t>
            </a:r>
            <a:endParaRPr b="0" lang="en-US" sz="1600" spc="-1" strike="noStrike">
              <a:solidFill>
                <a:srgbClr val="000000"/>
              </a:solidFill>
              <a:latin typeface="Arial"/>
            </a:endParaRPr>
          </a:p>
        </p:txBody>
      </p:sp>
      <p:pic>
        <p:nvPicPr>
          <p:cNvPr id="581" name="Picture 1" descr=""/>
          <p:cNvPicPr/>
          <p:nvPr/>
        </p:nvPicPr>
        <p:blipFill>
          <a:blip r:embed="rId3"/>
          <a:stretch/>
        </p:blipFill>
        <p:spPr>
          <a:xfrm>
            <a:off x="457200" y="331920"/>
            <a:ext cx="2408400" cy="633240"/>
          </a:xfrm>
          <a:prstGeom prst="rect">
            <a:avLst/>
          </a:prstGeom>
          <a:ln w="0">
            <a:noFill/>
          </a:ln>
        </p:spPr>
      </p:pic>
      <p:pic>
        <p:nvPicPr>
          <p:cNvPr id="582" name="Picture 3" descr=""/>
          <p:cNvPicPr/>
          <p:nvPr/>
        </p:nvPicPr>
        <p:blipFill>
          <a:blip r:embed="rId4"/>
          <a:stretch/>
        </p:blipFill>
        <p:spPr>
          <a:xfrm>
            <a:off x="425520" y="612792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42720" y="839880"/>
            <a:ext cx="8458200" cy="21319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Procurement field – most susceptible to fraud</a:t>
            </a: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entire personnel of the beneficiary, involved in the procurement process (preparation, elaboration, implementation or closure), including </a:t>
            </a:r>
            <a:r>
              <a:rPr b="1" lang="en-US" sz="1700" spc="-1" strike="noStrike" u="sng">
                <a:solidFill>
                  <a:srgbClr val="002060"/>
                </a:solidFill>
                <a:uFillTx/>
                <a:latin typeface="Arial Black"/>
                <a:ea typeface="Arial"/>
              </a:rPr>
              <a:t>direct procurements </a:t>
            </a:r>
            <a:r>
              <a:rPr b="1" lang="en-US" sz="1700" spc="-1" strike="noStrike">
                <a:solidFill>
                  <a:srgbClr val="002060"/>
                </a:solidFill>
                <a:latin typeface="Arial Black"/>
                <a:ea typeface="Arial"/>
              </a:rPr>
              <a:t>shall declare the absence of Conflict of Interest.   The obligation should apply at least to the following people:</a:t>
            </a:r>
            <a:endParaRPr b="0" lang="en-US" sz="1700" spc="-1" strike="noStrike">
              <a:solidFill>
                <a:srgbClr val="000000"/>
              </a:solidFill>
              <a:latin typeface="Calibri"/>
            </a:endParaRPr>
          </a:p>
        </p:txBody>
      </p:sp>
      <p:sp>
        <p:nvSpPr>
          <p:cNvPr id="584"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85" name="Picture 2" descr=""/>
          <p:cNvPicPr/>
          <p:nvPr/>
        </p:nvPicPr>
        <p:blipFill>
          <a:blip r:embed="rId1"/>
          <a:stretch/>
        </p:blipFill>
        <p:spPr>
          <a:xfrm>
            <a:off x="6445080" y="2844720"/>
            <a:ext cx="2286000" cy="3062520"/>
          </a:xfrm>
          <a:prstGeom prst="rect">
            <a:avLst/>
          </a:prstGeom>
          <a:ln w="0">
            <a:noFill/>
          </a:ln>
        </p:spPr>
      </p:pic>
      <p:sp>
        <p:nvSpPr>
          <p:cNvPr id="586" name="TextBox 6"/>
          <p:cNvSpPr/>
          <p:nvPr/>
        </p:nvSpPr>
        <p:spPr>
          <a:xfrm>
            <a:off x="217440" y="2938320"/>
            <a:ext cx="6227640" cy="3321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the head of the Beneficiary and anyone to whom he/she delegates his/her dutie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management board,</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staff contributing to preparing/drafting the tender document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evaluation committe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experts performing any task connected with preparing the tender documents and/or evaluating the bids, including external experts.</a:t>
            </a:r>
            <a:endParaRPr b="0" lang="en-US" sz="1600" spc="-1" strike="noStrike">
              <a:solidFill>
                <a:srgbClr val="000000"/>
              </a:solidFill>
              <a:latin typeface="Arial"/>
            </a:endParaRPr>
          </a:p>
          <a:p>
            <a:pPr lvl="1" marL="800280" indent="-34308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Declarations for absence of conflict of interest, according to national legislation, as well as Annex 17 in PIM</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87" name="Picture 2" descr="D:\VIM\VIM_elements_for_colleagues\7. BRCT Călăraşi.JPG"/>
          <p:cNvPicPr/>
          <p:nvPr/>
        </p:nvPicPr>
        <p:blipFill>
          <a:blip r:embed="rId2"/>
          <a:stretch/>
        </p:blipFill>
        <p:spPr>
          <a:xfrm>
            <a:off x="8077320" y="5943600"/>
            <a:ext cx="653760" cy="754200"/>
          </a:xfrm>
          <a:prstGeom prst="rect">
            <a:avLst/>
          </a:prstGeom>
          <a:ln w="0">
            <a:noFill/>
          </a:ln>
        </p:spPr>
      </p:pic>
      <p:pic>
        <p:nvPicPr>
          <p:cNvPr id="588" name="Picture 1" descr=""/>
          <p:cNvPicPr/>
          <p:nvPr/>
        </p:nvPicPr>
        <p:blipFill>
          <a:blip r:embed="rId3"/>
          <a:stretch/>
        </p:blipFill>
        <p:spPr>
          <a:xfrm>
            <a:off x="369720" y="304920"/>
            <a:ext cx="2408400" cy="633240"/>
          </a:xfrm>
          <a:prstGeom prst="rect">
            <a:avLst/>
          </a:prstGeom>
          <a:ln w="0">
            <a:noFill/>
          </a:ln>
        </p:spPr>
      </p:pic>
      <p:pic>
        <p:nvPicPr>
          <p:cNvPr id="589" name="Picture 3" descr=""/>
          <p:cNvPicPr/>
          <p:nvPr/>
        </p:nvPicPr>
        <p:blipFill>
          <a:blip r:embed="rId4"/>
          <a:stretch/>
        </p:blipFill>
        <p:spPr>
          <a:xfrm>
            <a:off x="301680" y="6124680"/>
            <a:ext cx="1222200" cy="55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440" y="1039680"/>
            <a:ext cx="8077320" cy="27324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7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declarations for absence of conflict of interest should be checked against employment history, family status, etc.;</a:t>
            </a:r>
            <a:endParaRPr b="0" lang="en-US" sz="1700" spc="-1" strike="noStrike">
              <a:solidFill>
                <a:srgbClr val="000000"/>
              </a:solidFill>
              <a:latin typeface="Calibri"/>
            </a:endParaRPr>
          </a:p>
          <a:p>
            <a:pPr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700" spc="-1" strike="noStrike">
              <a:solidFill>
                <a:srgbClr val="000000"/>
              </a:solidFill>
              <a:latin typeface="Calibri"/>
            </a:endParaRPr>
          </a:p>
          <a:p>
            <a:pPr algn="just">
              <a:lnSpc>
                <a:spcPct val="10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92" name="Picture 2" descr="D:\VIM\VIM_elements_for_colleagues\7. BRCT Călăraşi.JPG"/>
          <p:cNvPicPr/>
          <p:nvPr/>
        </p:nvPicPr>
        <p:blipFill>
          <a:blip r:embed="rId1"/>
          <a:stretch/>
        </p:blipFill>
        <p:spPr>
          <a:xfrm>
            <a:off x="8153280" y="6021360"/>
            <a:ext cx="609840" cy="701640"/>
          </a:xfrm>
          <a:prstGeom prst="rect">
            <a:avLst/>
          </a:prstGeom>
          <a:ln w="0">
            <a:noFill/>
          </a:ln>
        </p:spPr>
      </p:pic>
      <p:sp>
        <p:nvSpPr>
          <p:cNvPr id="593" name="TextBox 4"/>
          <p:cNvSpPr/>
          <p:nvPr/>
        </p:nvSpPr>
        <p:spPr>
          <a:xfrm>
            <a:off x="685800" y="3673440"/>
            <a:ext cx="5334120" cy="250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four eyes principle for all documents drafted according to national legislation/ internal programme requirements;</a:t>
            </a:r>
            <a:endParaRPr b="0" lang="en-US" sz="1700" spc="-1" strike="noStrike">
              <a:solidFill>
                <a:srgbClr val="000000"/>
              </a:solidFill>
              <a:latin typeface="Arial"/>
            </a:endParaRPr>
          </a:p>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principle of rotation and randomness when setting the evaluation/selection board (if the personnel is sufficient to ensure such rotation and randomness). </a:t>
            </a:r>
            <a:endParaRPr b="0" lang="en-US" sz="1700" spc="-1" strike="noStrike">
              <a:solidFill>
                <a:srgbClr val="000000"/>
              </a:solidFill>
              <a:latin typeface="Arial"/>
            </a:endParaRPr>
          </a:p>
        </p:txBody>
      </p:sp>
      <p:pic>
        <p:nvPicPr>
          <p:cNvPr id="594" name="Picture 4" descr="C:\Users\gergana.mihaylova\Desktop\images.jpg"/>
          <p:cNvPicPr/>
          <p:nvPr/>
        </p:nvPicPr>
        <p:blipFill>
          <a:blip r:embed="rId2"/>
          <a:stretch/>
        </p:blipFill>
        <p:spPr>
          <a:xfrm>
            <a:off x="6019920" y="3978360"/>
            <a:ext cx="2819160" cy="1807920"/>
          </a:xfrm>
          <a:prstGeom prst="rect">
            <a:avLst/>
          </a:prstGeom>
          <a:ln w="0">
            <a:noFill/>
          </a:ln>
        </p:spPr>
      </p:pic>
      <p:pic>
        <p:nvPicPr>
          <p:cNvPr id="595" name="Picture 1" descr=""/>
          <p:cNvPicPr/>
          <p:nvPr/>
        </p:nvPicPr>
        <p:blipFill>
          <a:blip r:embed="rId3"/>
          <a:stretch/>
        </p:blipFill>
        <p:spPr>
          <a:xfrm>
            <a:off x="457200" y="341280"/>
            <a:ext cx="2408400" cy="633600"/>
          </a:xfrm>
          <a:prstGeom prst="rect">
            <a:avLst/>
          </a:prstGeom>
          <a:ln w="0">
            <a:noFill/>
          </a:ln>
        </p:spPr>
      </p:pic>
      <p:pic>
        <p:nvPicPr>
          <p:cNvPr id="596" name="Picture 3" descr=""/>
          <p:cNvPicPr/>
          <p:nvPr/>
        </p:nvPicPr>
        <p:blipFill>
          <a:blip r:embed="rId4"/>
          <a:stretch/>
        </p:blipFill>
        <p:spPr>
          <a:xfrm>
            <a:off x="447840" y="613260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0520" y="1066680"/>
            <a:ext cx="8534520" cy="49831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6092"/>
                </a:solidFill>
                <a:latin typeface="Trebuchet MS"/>
                <a:ea typeface="Times New Roman"/>
              </a:rPr>
              <a:t>          </a:t>
            </a:r>
            <a:r>
              <a:rPr b="1" lang="en-GB" sz="1800" spc="-1" strike="noStrike">
                <a:solidFill>
                  <a:srgbClr val="376092"/>
                </a:solidFill>
                <a:latin typeface="Arial Black"/>
                <a:ea typeface="Times New Roman"/>
              </a:rPr>
              <a:t>The clear message from the Programme management structures i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Black"/>
                <a:ea typeface="Times New Roman"/>
              </a:rPr>
              <a:t>Zero Tolerance to Fraud!</a:t>
            </a:r>
            <a:endParaRPr b="0" lang="en-US" sz="2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drap.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MKrasteva@mrrb.government.bg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SDilkovski@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Den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NA-RO-BG@mrrb.government.bg  </a:t>
            </a:r>
            <a:endParaRPr b="0" lang="en-US" sz="1800" spc="-1" strike="noStrike">
              <a:solidFill>
                <a:srgbClr val="000000"/>
              </a:solidFill>
              <a:latin typeface="Calibri"/>
            </a:endParaRPr>
          </a:p>
        </p:txBody>
      </p:sp>
      <p:sp>
        <p:nvSpPr>
          <p:cNvPr id="598"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779E-BE79-4C61-9E38-8A5F244813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600" name="Picture 4" descr="C:\Users\gergana.mihaylova\Desktop\images.jpg"/>
          <p:cNvPicPr/>
          <p:nvPr/>
        </p:nvPicPr>
        <p:blipFill>
          <a:blip r:embed="rId1"/>
          <a:stretch/>
        </p:blipFill>
        <p:spPr>
          <a:xfrm>
            <a:off x="5002200" y="3200400"/>
            <a:ext cx="3075120" cy="2895480"/>
          </a:xfrm>
          <a:prstGeom prst="rect">
            <a:avLst/>
          </a:prstGeom>
          <a:ln w="0">
            <a:noFill/>
          </a:ln>
        </p:spPr>
      </p:pic>
      <p:pic>
        <p:nvPicPr>
          <p:cNvPr id="601" name="Picture 2" descr="D:\VIM\VIM_elements_for_colleagues\7. BRCT Călăraşi.JPG"/>
          <p:cNvPicPr/>
          <p:nvPr/>
        </p:nvPicPr>
        <p:blipFill>
          <a:blip r:embed="rId2"/>
          <a:stretch/>
        </p:blipFill>
        <p:spPr>
          <a:xfrm>
            <a:off x="8344080" y="5894280"/>
            <a:ext cx="636480" cy="731880"/>
          </a:xfrm>
          <a:prstGeom prst="rect">
            <a:avLst/>
          </a:prstGeom>
          <a:ln w="0">
            <a:noFill/>
          </a:ln>
        </p:spPr>
      </p:pic>
      <p:pic>
        <p:nvPicPr>
          <p:cNvPr id="602" name="Picture 2" descr=""/>
          <p:cNvPicPr/>
          <p:nvPr/>
        </p:nvPicPr>
        <p:blipFill>
          <a:blip r:embed="rId3"/>
          <a:stretch/>
        </p:blipFill>
        <p:spPr>
          <a:xfrm>
            <a:off x="403200" y="314280"/>
            <a:ext cx="2408400" cy="633600"/>
          </a:xfrm>
          <a:prstGeom prst="rect">
            <a:avLst/>
          </a:prstGeom>
          <a:ln w="0">
            <a:noFill/>
          </a:ln>
        </p:spPr>
      </p:pic>
      <p:pic>
        <p:nvPicPr>
          <p:cNvPr id="603" name="Picture 3" descr=""/>
          <p:cNvPicPr/>
          <p:nvPr/>
        </p:nvPicPr>
        <p:blipFill>
          <a:blip r:embed="rId4"/>
          <a:stretch/>
        </p:blipFill>
        <p:spPr>
          <a:xfrm>
            <a:off x="403200" y="6016680"/>
            <a:ext cx="1341360" cy="609480"/>
          </a:xfrm>
          <a:prstGeom prst="rect">
            <a:avLst/>
          </a:prstGeom>
          <a:ln w="0">
            <a:noFill/>
          </a:ln>
        </p:spPr>
      </p:pic>
      <p:sp>
        <p:nvSpPr>
          <p:cNvPr id="604" name="Title 1"/>
          <p:cNvSpPr/>
          <p:nvPr/>
        </p:nvSpPr>
        <p:spPr>
          <a:xfrm>
            <a:off x="1701720" y="6014880"/>
            <a:ext cx="6624720" cy="3556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Trebuchet MS"/>
                <a:ea typeface="Arial"/>
              </a:rPr>
              <a:t>The content of this material does not necessarily represent the official position of the European Union</a:t>
            </a:r>
            <a:endParaRPr b="0" lang="en-US" sz="1400" spc="-1" strike="noStrike">
              <a:solidFill>
                <a:srgbClr val="000000"/>
              </a:solidFill>
              <a:latin typeface="Arial"/>
            </a:endParaRPr>
          </a:p>
        </p:txBody>
      </p:sp>
      <p:sp>
        <p:nvSpPr>
          <p:cNvPr id="605"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Evdokia Nedelcheva</cp:lastModifiedBy>
  <cp:lastPrinted>2011-04-11T13:03:17Z</cp:lastPrinted>
  <dcterms:modified xsi:type="dcterms:W3CDTF">2018-10-25T12:58:41Z</dcterms:modified>
  <cp:revision>521</cp:revision>
  <dc:subject/>
  <dc:title>Slide 1</dc:title>
</cp:coreProperties>
</file>