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CB2F-F3AC-4574-AB37-47E1FD98A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48FA-8656-477F-9784-917756AE17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A5B7-BF83-4618-B2E2-362B1974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6E8E-7DDF-4DC8-92A4-733CE16C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3649-D72B-4188-A6AC-00E26EA6F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C454-2016-468D-A721-AABA1273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96DD-6381-4710-9082-BEDAB5A6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1E5-F391-4C4F-A899-9AECF1C4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D25-ABBF-4C87-BF46-A893907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34B23-71A0-4C1D-BA2A-3C5CD73D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0564D-DE78-478D-AD05-631C4E2E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B6C11-925A-46A6-9569-5F95B072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07A67-16BA-47BC-9E62-970FE8DE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3CDC9-CBE2-47D2-8C5D-9A3B6DCB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E528B-7793-49B9-B7B0-DC44419C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743F9-5135-4CB8-8BF0-F95E3A2B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6A54F-64C3-4ECE-BF4A-DB6DED2C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0CD72-B43E-4ED7-A434-F49ABE31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A9D6D-ADA2-4551-B6F4-A359BF60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B44-2A21-441F-B3C1-64798C8D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D6569-4613-4DBC-9DC5-A3B0E64D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990BC-6CDF-4DF9-98E7-806C1B6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C5185-F387-4F97-831D-F125E878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FD203-79AF-4F49-91CB-71872643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59BF2-C9C0-4297-94E4-40E2611D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4E2D9-39B1-4D88-9CD1-0F025E04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8123A-0671-49C1-BB64-A827622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0B958-6BDA-4353-9922-219146E6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58CEC-AE42-4062-9FA7-497C5C78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70C04-5DD0-400A-A22D-AB54AA22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E38-1601-41F2-B2DD-675EEE07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3B2CF-9A6F-4BA8-8A05-8ED82FB6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5727F-9F8C-4493-91D1-2F03DBD0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E0B42-5E0A-4037-8E22-8669F50C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D5201-EF72-4D43-85AD-4DB107E0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06D5F-BCC1-4FFD-9BFF-DEDC71B7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566F5-587D-4D07-8F28-7EBE18C6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D36E-24A3-462C-910F-5F2DE4B9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7435E-8406-4D4B-AC4A-124ABB5B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CBC8D-85E3-43AC-BDD2-053D4984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756E4-399C-4CC4-B650-7FF3379C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58E5-0F93-4DEB-9910-08660141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576F6-7955-4460-9CA1-BBA1A79F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BC03C-3C86-4915-A774-6BB0DEA9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EC5F4-965B-46B6-987C-96EB8ED6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B5AE4-084C-4411-BD27-880860C1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4C5DC-82E7-43AD-AD44-F8790B53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E0E82-36D6-44E5-BE5A-9213BA79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D6F75-EBEF-474D-A545-304E8748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94380-3EA6-4226-93BB-6209E660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3AB74-0FBA-4555-B05D-822046A0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1685A-2F16-41D0-A686-1DAD806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4F0-40A5-4A08-B769-BB7A112E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BADC5-DF9F-443B-9D3B-9291DE6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97A82-CC01-4243-8F86-6F97DEE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7135D-A133-4E42-A0CD-C8BD6959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73F2B-4B69-4B5C-9D7E-18133B98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1FB65-F99C-4966-B620-F73E935E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ABD67-A126-4068-9BA5-A3EB8698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87BDA-D9FB-4E69-BD9A-46B506A0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4D9B6-8AF0-42A9-85FA-8E59936C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CDE1B-BFD7-4CF9-9F28-EA421B4D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2FABA-57EE-4789-B59F-E213402E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0242-B4AE-4E14-9BD7-E4847437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0BF9C-28B0-46C3-9A8D-4C1D9222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7690B-007A-4623-800E-FF0B50F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9C0DD-C71B-46EB-A62C-A3738583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C3FAE-52B4-4802-A530-D7C16440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EF7E3-323B-4E93-B528-686C368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B499B-97CA-4BB8-9AE6-132B8D4A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CACFF-2E90-4AC2-ABF5-0EA975BC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644B-5752-41B2-AC5F-6A48646A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A493-5FD9-4DC6-B428-74D0EC4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D938-98FF-4EA9-B22A-247D9A62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B552-B61F-4F4D-8FA4-FD3A81A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783-7EB1-4C5A-B985-47E68FE0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B179-0443-4123-8B8D-572A36E7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0696-94E4-4AD5-9A27-BEC9663A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EAD8-63B7-4FCC-8C78-EBFF461E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E620-AF28-493E-BD47-6B91DEDE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9275-752C-40AA-BAFD-3682D363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24EB2-5651-45B9-851A-CE54712A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63A4-D38F-4A28-A303-48E9D1A6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7DEE-5F0A-4E96-852E-E680FA8A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2871-D24B-48CE-98A1-C8A2588A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3954-54C0-48D3-8F32-5047872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F85-8AAD-42B4-BEFD-AA19AD3D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C10A-6BE2-4AA1-A9DE-39D82007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C030-3B3F-4F19-A637-9599E56C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2902-DE5D-4E8E-AF61-05F50E6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8CC9-0565-44FC-90EB-2A64655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C1E7-B704-446B-B6A5-76C8EC0F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119D-4268-40D4-A78B-079FF7E3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83FFB-57F5-44AD-AB33-AC303CA4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46DB1-AE98-4A6A-A00A-7B28DBEA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AFD1-E3EC-4D9D-B011-DEBEB12B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5A82F-5F9F-41E6-AA7F-4671FA44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688-1190-4CCD-9C7A-B70DA96C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7D07-9A5B-417F-A9B7-39B2C27D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7BFB4-EBBF-4A61-94F1-C55D1FD8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0E9C-CADF-4C2C-8437-C5C796B5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063E-5767-4554-8B3A-6F086CAD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2FA6-0BF6-4973-B15C-418AB6E5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992A-DFE3-47B1-842B-A06F41F9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19E2-A48D-42EA-AC65-76A5FD5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FB86-B77F-4408-912B-AE738A6E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0417-63E7-4CDE-8DDF-E8CEFEEE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BEE38-135F-489A-8A86-4D946E8E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D14-C9AD-4195-8612-77531B2A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3DF3-D680-47CF-A639-8C0CE3D7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8B7E6-E10F-475B-9CDA-203CFD28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0373-C49D-44C5-A66C-CC18B676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849AF-F825-4EB8-8C09-1FC7F549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166F-6A25-487D-9D41-E34C1DB3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A44B-3D5F-437D-9873-13996E87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7C23A-42CE-4BC1-AEB0-15AF35D3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51B62-2D50-4AB3-96E8-FCB4384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3E51-85CC-4447-9912-44157790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AE82-9D93-411D-98DE-696474E4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BC2-B54C-4788-933A-003C60F3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9AB2F-8F62-48C3-99CE-F6E82CFC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FA30C-B65A-4A76-99BE-0971EDF4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34FD-9224-426C-AF3B-EE0A8D12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BEC0-B562-45A7-B98E-B5F7C3B2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D7F08-8217-4B3A-AD4F-71BF984D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C1EDE-2EB1-4F97-BDC5-E8D4A085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ADFC4-DA92-47BE-AEBF-8102E6B0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8E7D9-2D61-4835-86C4-342FA1B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8F43B-A989-4E4B-A75F-E1FACC4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6CA4-38C7-4AB8-8C8D-F2B6D13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B02-99C9-4F4F-B830-14416650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3D46B-09ED-40DF-A090-0D65C120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2784-62DB-4AEB-ADAE-94DDB259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C495F-3DCF-4526-87F5-98FEEA1F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5DEA-1544-4603-9B81-FA75FE8E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93E14-B1BE-42CF-A6A4-46709FD7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5E9E-7CD0-4BAA-8144-EA30C367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D40F9-55D0-4CEE-8DC4-571CF919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E674D-18E0-44E5-8BB3-6CABCAD1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B8FD8-2C9D-4C73-8ECD-B5B500EA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09ED6-7F0C-4EED-9B3F-586BCA4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6E7-C225-42BE-891B-9B2B3164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3EF5A-19E9-44B2-9A7C-924C84BF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385DF-61E6-4AE2-87FF-F264712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89009-683D-42DB-A546-A975A2D6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68969-50D1-4CF4-9A5B-2E05097C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0268F-0062-40E9-B2D0-9C2D8356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1C51B-F4AD-4542-89B7-49C8139D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93EED-E600-4BEF-8A1B-E5C23F58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EC6EF-0141-4160-B27A-CE3B98D9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179D4-1B47-4B81-84C5-CFDB32AA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B991A-F385-44DB-B007-F4C47BA3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A0F-57B6-4723-AA46-DC65ECE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D2F6-F0A1-4A94-BB70-DF069AC4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41B5-AD8D-4E87-8E46-E03CD78B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C96C7-F1CF-4C3A-A280-9F44B8B1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2B333-40D7-4461-9BBF-28521FE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E0787-CD26-4270-8F0E-1D814CEF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A3DE4-C12A-4056-9390-FA1729D2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DB1CA-7E9F-4988-B5FE-97734F1B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61762-8292-477E-880D-F3B40698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BF539-C7B8-45AF-BAE7-9EBD91B5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90C9E-EF44-4600-AB49-9B612C41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6182-F7A3-4070-A0E2-48E3246AC9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orkshop Const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0913-A174-4D32-8780-922EBDDB6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E5C7-EA84-42E9-B9F8-0C7F560FB5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22A9-0A05-46CD-A82D-C5E2DDB7A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D04A-DBA6-4FEE-B895-0F90DBB8F8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0BB-B44F-4266-9965-6859A64B7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0A40-892E-4AA9-9AE8-A4EBCA3FE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173C-2F42-4E48-A42F-635246FDC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686F-7218-43F1-8FAD-101E6E9ED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469C-6576-4E8F-A99D-5DEF1C32C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9A0-A627-4CAE-807B-C7D4237934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0F19-CC1D-4E46-9911-8736EACC5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284C-A140-41CB-B8DF-CFE51FB4C2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E923-500E-4580-9D61-4056021D1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2F7A-F37F-4489-B059-6DD53DDD67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D9C4-05B7-4DD0-8A69-8D6E5B57E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B6B0-C9A9-4EF7-AE93-D653B354D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F878-0C89-4363-851D-2FC9F1CA3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10B0-FA60-48D4-B6BE-D4B2B031DA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4D5-1898-4286-ADC1-E41379073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ECF1-9A37-49D6-AB45-7DB5496F24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0732-60B8-45D1-9F4E-74A21DAD4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C57A-9DC3-446A-ABBD-72D918A6AF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E359-36F8-48BB-854C-9057C921F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20C6-658A-4F30-93A1-D2097A3B84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D22A-1BE0-4008-BEE8-6183F6D9A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interregrobg.eu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c.europa.eu/sfc/en/2014/anti-fraud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6896160" y="26028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4151160" y="216000"/>
            <a:ext cx="1606680" cy="1171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610080" y="4267080"/>
            <a:ext cx="1923840" cy="876600"/>
          </a:xfrm>
          <a:prstGeom prst="rect">
            <a:avLst/>
          </a:prstGeom>
          <a:ln w="0">
            <a:noFill/>
          </a:ln>
        </p:spPr>
      </p:pic>
      <p:sp>
        <p:nvSpPr>
          <p:cNvPr id="547" name="Subtitle 2"/>
          <p:cNvSpPr/>
          <p:nvPr/>
        </p:nvSpPr>
        <p:spPr>
          <a:xfrm>
            <a:off x="343080" y="159696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БОРБА С ИЗМАМ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КОНФЛИКТ НА ИНТЕР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в проектите, реализирани в рамките на Програмата Interreg V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Румъния-Бълг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9 август 2023, Он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Trebuchet MS"/>
                <a:ea typeface="Arial"/>
                <a:hlinkClick r:id="rId3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4" descr=""/>
          <p:cNvPicPr/>
          <p:nvPr/>
        </p:nvPicPr>
        <p:blipFill>
          <a:blip r:embed="rId4"/>
          <a:stretch/>
        </p:blipFill>
        <p:spPr>
          <a:xfrm>
            <a:off x="7920000" y="299880"/>
            <a:ext cx="1006560" cy="1140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457200" y="1301760"/>
            <a:ext cx="807732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bg-BG" sz="2800" spc="-1" strike="noStrike" u="sng">
                <a:solidFill>
                  <a:srgbClr val="ff0000"/>
                </a:solidFill>
                <a:uFillTx/>
                <a:latin typeface="Arial Black"/>
              </a:rPr>
              <a:t>Какво е изма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Измама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- всяко умишлено действие или бездействие, свързано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използване или представяне на неверни, неверни или непълни твърдения или докум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638680" y="3224160"/>
            <a:ext cx="3105360" cy="23907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2"/>
          <p:cNvSpPr/>
          <p:nvPr/>
        </p:nvSpPr>
        <p:spPr>
          <a:xfrm>
            <a:off x="422280" y="3429000"/>
            <a:ext cx="49528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разкриване на информация в нарушение на конкретно задължение със същия е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използване на средства за цели, различни от тези, за които са отпуснати</a:t>
            </a:r>
            <a:r>
              <a:rPr b="0" lang="ro-RO" sz="18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AC92-948E-4DEF-97D1-BC42A8058B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242B-359B-40C5-A959-1A7FD7CB5E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495360" y="952560"/>
            <a:ext cx="84582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Член 57 от Финансовия рег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Конфликт на интереси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съществува, ако е компрометирано безпристрастното и обективно упражняване на функциите на финансов участник или други лица, участващи в изпълнението и управлението на бюджета, включително изготвянето на съответните подготвителни актове, както и в одита или контрола на бюджета поради причини, включващи: 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495360" y="3422520"/>
            <a:ext cx="819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Сем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Политически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национален афи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Личен жив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Икономически инте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Други интереси, общи с тези на получ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299880" y="6149880"/>
            <a:ext cx="1341720" cy="611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4118040" y="3581280"/>
            <a:ext cx="4763880" cy="1806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80520" y="979200"/>
            <a:ext cx="8534520" cy="39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Документи за предотвратяване на измами и конфликт на интере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Глава 18.Б. „Мерки за борба с измамите” от Ръководството за изпълнение на проект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кандидати и бенефициенти на Програмата Interreg V-A Ro-Bg, достъпно на уебсайта на програмата (раздел „Публикации на програмата“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, достъпно на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Arial Black"/>
                <a:ea typeface="Arial"/>
                <a:hlinkClick r:id="rId1"/>
              </a:rPr>
              <a:t>https://ec.europa.eu/sfc/en/2014/anti-fraud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r>
              <a:rPr b="1" lang="bg-BG" sz="17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2286000" y="501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"/>
          <p:cNvSpPr/>
          <p:nvPr/>
        </p:nvSpPr>
        <p:spPr>
          <a:xfrm>
            <a:off x="380880" y="4900680"/>
            <a:ext cx="6400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бенефициенти на проекти, финансирани от ЕСИ за предотвратяване на нередности/измами, достъпно на 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https://www.integritate.eu/A.N.I.-interactiv/Ghiduri.aspx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C:\Users\gergana.mihaylova\Desktop\text-guide.png"/>
          <p:cNvPicPr/>
          <p:nvPr/>
        </p:nvPicPr>
        <p:blipFill>
          <a:blip r:embed="rId2"/>
          <a:stretch/>
        </p:blipFill>
        <p:spPr>
          <a:xfrm>
            <a:off x="6415200" y="4603680"/>
            <a:ext cx="2587680" cy="1725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3"/>
          <a:stretch/>
        </p:blipFill>
        <p:spPr>
          <a:xfrm>
            <a:off x="392040" y="6229440"/>
            <a:ext cx="1131840" cy="514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1496880"/>
            <a:ext cx="77724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br>
              <a:rPr sz="2000"/>
            </a:br>
            <a:r>
              <a:rPr b="1" lang="bg-BG" sz="2200" spc="-1" strike="noStrike">
                <a:solidFill>
                  <a:srgbClr val="002060"/>
                </a:solidFill>
                <a:latin typeface="Arial Black"/>
                <a:ea typeface="Arial"/>
              </a:rPr>
              <a:t>Как процедираме</a:t>
            </a:r>
            <a:r>
              <a:rPr b="1" lang="ro-RO" sz="2200" spc="-1" strike="noStrike">
                <a:solidFill>
                  <a:srgbClr val="002060"/>
                </a:solidFill>
                <a:latin typeface="Arial Black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943280" y="5414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" descr="C:\Users\gergana.mihaylova\Desktop\code-of-conduct-img.jpg"/>
          <p:cNvPicPr/>
          <p:nvPr/>
        </p:nvPicPr>
        <p:blipFill>
          <a:blip r:embed="rId1"/>
          <a:stretch/>
        </p:blipFill>
        <p:spPr>
          <a:xfrm>
            <a:off x="6775560" y="2889360"/>
            <a:ext cx="2124000" cy="2460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425520" y="612792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76" name="Subtitle 2"/>
          <p:cNvSpPr/>
          <p:nvPr/>
        </p:nvSpPr>
        <p:spPr>
          <a:xfrm>
            <a:off x="372960" y="2701800"/>
            <a:ext cx="6132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 Black"/>
                <a:ea typeface="Arial"/>
              </a:rPr>
              <a:t>Препоръчително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вътрешен кодекс за поведение и политика на конфликт на интереси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  <a:ea typeface="Arial"/>
              </a:rPr>
              <a:t>по отношение на проекти, финансирани от европейски фондове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В противен случай - насоки на ЕС или други национални разпоредби (например: 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) или други национални разпоред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15800" y="2239560"/>
            <a:ext cx="84614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Arial"/>
              </a:rPr>
              <a:t>Сферата на обществените поръчки - най-податлива на из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екларации за целия персонал, участващ в процеса на възлагане на обществени поръчки - подписани, регистрирани и предоставени на структурите на Програмата (Приложение 17 в НИП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903320" y="544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6026040" y="3675240"/>
            <a:ext cx="1824120" cy="2444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01680" y="6124680"/>
            <a:ext cx="1222200" cy="555480"/>
          </a:xfrm>
          <a:prstGeom prst="rect">
            <a:avLst/>
          </a:prstGeom>
          <a:ln w="0">
            <a:noFill/>
          </a:ln>
        </p:spPr>
      </p:pic>
      <p:sp>
        <p:nvSpPr>
          <p:cNvPr id="583" name="TextBox 4"/>
          <p:cNvSpPr/>
          <p:nvPr/>
        </p:nvSpPr>
        <p:spPr>
          <a:xfrm>
            <a:off x="378000" y="3963960"/>
            <a:ext cx="519264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„4 очи” за всички документи, изготвени в съответствие с националното законодателство/изискванията на вътрешната програм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на ротация и произволен подбор при съставяне на комисията за оценка/подбор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646200" y="1420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1352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447840" y="613260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88" name="Content Placeholder 1"/>
          <p:cNvSpPr/>
          <p:nvPr/>
        </p:nvSpPr>
        <p:spPr>
          <a:xfrm>
            <a:off x="685800" y="9907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3366"/>
                </a:solidFill>
                <a:latin typeface="Trebuchet MS"/>
                <a:ea typeface="Arial"/>
              </a:rPr>
              <a:t>Нашият принцип</a:t>
            </a:r>
            <a:r>
              <a:rPr b="1" lang="ro-RO" sz="3000" spc="-1" strike="noStrike">
                <a:solidFill>
                  <a:srgbClr val="003366"/>
                </a:solidFill>
                <a:latin typeface="Trebuchet MS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0000"/>
                </a:solidFill>
                <a:latin typeface="Trebuchet MS"/>
                <a:ea typeface="Arial"/>
              </a:rPr>
              <a:t>Нулева толерантност към измами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  <a:ea typeface="Arial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2"/>
          <a:stretch/>
        </p:blipFill>
        <p:spPr>
          <a:xfrm>
            <a:off x="339840" y="212724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293760" y="4473720"/>
            <a:ext cx="60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  <a:ea typeface="Arial"/>
              </a:rPr>
              <a:t>Системата за предупреждение на уебсайта на Програмата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https://www.interregrobg.eu/ro/conta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3"/>
          <a:stretch/>
        </p:blipFill>
        <p:spPr>
          <a:xfrm>
            <a:off x="7083360" y="4384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2"/>
          <p:cNvSpPr/>
          <p:nvPr/>
        </p:nvSpPr>
        <p:spPr>
          <a:xfrm>
            <a:off x="6553080" y="6294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D833-083F-4AA0-9B57-527453C349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"/>
          <p:cNvSpPr/>
          <p:nvPr/>
        </p:nvSpPr>
        <p:spPr>
          <a:xfrm>
            <a:off x="1522440" y="9050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 Black"/>
              </a:rPr>
              <a:t>       </a:t>
            </a:r>
            <a:r>
              <a:rPr b="0" lang="bg-BG" sz="2800" spc="-1" strike="noStrike">
                <a:solidFill>
                  <a:srgbClr val="002060"/>
                </a:solidFill>
                <a:latin typeface="Arial Black"/>
              </a:rPr>
              <a:t>ДОКЛАД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C:\Users\gergana.mihaylova\Desktop\images.jpg"/>
          <p:cNvPicPr/>
          <p:nvPr/>
        </p:nvPicPr>
        <p:blipFill>
          <a:blip r:embed="rId1"/>
          <a:stretch/>
        </p:blipFill>
        <p:spPr>
          <a:xfrm>
            <a:off x="5764320" y="2797200"/>
            <a:ext cx="3074760" cy="28954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403200" y="601668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9"/>
          <p:cNvSpPr/>
          <p:nvPr/>
        </p:nvSpPr>
        <p:spPr>
          <a:xfrm>
            <a:off x="746280" y="643104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Trebuchet MS"/>
                <a:ea typeface="Arial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16080" y="1789200"/>
            <a:ext cx="8534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В случай на каквато и да е информация за съмнение за измама/нередност, свързана с Програмата, структурите за управление ще бъдат уведомени чрез системата за предупреждение:</a:t>
            </a: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румънските бенефициен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sesizari.proiecte@mlpda.ro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българските бенефициенти</a:t>
            </a: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Yana.Koleva@mrrb.government.bg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Rositsa.Draganova@mrrb.government.b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D.Petkova@mrrb.government.b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05892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10:07Z</dcterms:created>
  <dc:creator>eliza.pisica</dc:creator>
  <dc:description/>
  <dc:language>en-US</dc:language>
  <cp:lastModifiedBy>Slavena ZHELEVA</cp:lastModifiedBy>
  <cp:lastPrinted>2020-06-30T12:14:09Z</cp:lastPrinted>
  <dcterms:modified xsi:type="dcterms:W3CDTF">2023-08-07T09:25:24Z</dcterms:modified>
  <cp:revision>572</cp:revision>
  <dc:subject/>
  <dc:title>Slide 1</dc:title>
</cp:coreProperties>
</file>